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117-B059-4D97-8D43-6ECF178E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A50-C387-42CD-9615-ED6FF50D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C46-0047-4A5B-8EAF-70C76D56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64E-D1D4-422C-BC88-CA60FA85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CE1-075E-4900-8148-BFAF3FAD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F8C-73E5-40B0-9A46-96E44060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014-C01B-40F7-B99C-ADE8C91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5CE-E409-4F6F-B0EE-3DA88573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CFE-5DE3-4C35-BE2A-A554AEA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440-CF86-43D0-9842-6BE30CDD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599-4DA3-481C-BC31-9BAD4660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0B8-2410-4DA0-ACC4-7F54FFD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F130-15C6-4690-B8AD-E3951D94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8000" y="1824120"/>
            <a:ext cx="4583160" cy="3278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contrast="6000"/>
          </a:blip>
          <a:srcRect l="0" t="0" r="2143" b="0"/>
          <a:stretch/>
        </p:blipFill>
        <p:spPr>
          <a:xfrm>
            <a:off x="4475160" y="1812960"/>
            <a:ext cx="4572000" cy="334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b. To get a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b. To get a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759" t="0" r="4128" b="0"/>
          <a:stretch/>
        </p:blipFill>
        <p:spPr>
          <a:xfrm>
            <a:off x="106200" y="1773360"/>
            <a:ext cx="4321440" cy="319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3131" r="0" b="0"/>
          <a:stretch/>
        </p:blipFill>
        <p:spPr>
          <a:xfrm>
            <a:off x="4427640" y="1782720"/>
            <a:ext cx="45212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1:48:27Z</dcterms:created>
  <dc:creator>J.E Campagne</dc:creator>
  <dc:description/>
  <dc:language>en-US</dc:language>
  <cp:lastModifiedBy>J.E Campagne</cp:lastModifiedBy>
  <dcterms:modified xsi:type="dcterms:W3CDTF">2005-07-06T14:59:41Z</dcterms:modified>
  <cp:revision>2</cp:revision>
  <dc:subject/>
  <dc:title>Prob. To get a m trigger</dc:title>
</cp:coreProperties>
</file>